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24B-54E9-41B7-9F42-4B5DBED8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A70-D255-4AD1-A662-7B530975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15E-FBD0-43F2-ACBC-BFDDCE06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7AF-6959-4115-B913-BBF5A559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5EF-9AC7-4396-BD82-50891E65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1F1-72BA-413A-8563-CE5D103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A2C-787C-406E-9873-7E6205F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D20-1C9B-43BE-BF02-7AD3A336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84A-A8A1-494F-ADFE-E61BC065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1A9-5F95-4EC2-8766-4A2025AD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AD0-6E44-445F-86E2-387A5140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830-F9E7-4D67-995A-DA8D64C7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7426-A714-45E3-A1F2-46C1FF60A4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1 2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 de Vries</cp:lastModifiedBy>
  <dcterms:modified xsi:type="dcterms:W3CDTF">2003-07-04T14:16:03Z</dcterms:modified>
  <cp:revision>1</cp:revision>
  <dc:subject/>
  <dc:title>PowerPoint Presentation</dc:title>
</cp:coreProperties>
</file>